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4E7A-02E4-45B4-8004-CDF0496477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17F4-0EFA-4E9A-8A5B-94441070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DDB264-1F65-4585-82EE-CC8B467A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FB6CDF-184B-4179-8D70-901684B0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91AB81-5AB5-48A4-AEBB-D6C68F4E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4D8C82-C4EB-450C-8E2B-C8A60141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EE1852-C0EB-4ADA-AF0E-AF17116F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19770E-AEEC-4EDD-8C0B-0BD46490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FDC2FC-B1D8-4F00-9511-5739CEF0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8F53F6-4401-4488-9AE1-854A5A7D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A4B386-3DF8-41AE-A311-603C36EB29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F324F-065C-49D9-99A3-4C65C082A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6EF7-2D62-44C4-AE6D-7D6121CB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8F62F-7FA6-4AB3-BD1E-42E51D1F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366DA-6A58-4FFD-9E75-40130511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D83CA-BBC7-488F-A214-5DD33238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23FF6-93EF-4EF1-912A-04F386DA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F2FC6-2BD0-484B-B361-6DBAA517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38F8-6035-414B-B7E2-C0743637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6F0C3-6309-4016-BC2F-35B59A89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D0A2F-CF19-4EEF-A03E-4D8BCB14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35EF7-3F49-4FA2-B5E0-773A03DF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84B62-C6BE-499B-A85E-AD297E6F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1896-A895-4C93-B541-6BBF848030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8C962-971F-48FB-AD95-B907AD4131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F3733-C87D-4876-9D8C-15D855E20E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23D51-A510-4023-9FF6-0E003304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D7E6A0-E534-4BE7-A5CA-04EB2D29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B9EA9-7609-4C3A-8603-B976FFFC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FA35DA-C79E-4CDE-BB83-6E55D755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58D93F-7AE9-4C6B-8C76-B546B6D3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1DB10E-5B4D-46ED-AA50-B06AB1BA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BCCB6A-6912-4A13-BFE7-81ED8BF8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A51AFE-D3D6-4922-95E5-085772B2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A4F55-D23D-4ADF-ADB6-62BB440F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AD697-4F3E-420B-AF22-364800AA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06C8C4-8582-4B93-8938-C8148C43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441A2-3F60-4CD9-BDC7-817B2B6141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92820-CDF5-4758-9E02-89CED4244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E76D6-029A-4F28-AE83-2C1677DE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55683-658E-4194-BEE1-205B6D39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3D4B4-7CE9-4EB1-A22D-C88B2DE0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4311E-28DE-4EDF-A5FC-DEF1BE16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96B92-0AE4-45D3-B4B1-1935E6FD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7403B-462D-46E6-ABEE-87820EFD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1D2B9-E062-45AD-A8AA-E4EBEED6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B3C10-0648-4D9E-AC66-99117211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29957-6569-4950-A555-9EAD7EBB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FA12F-6459-4B60-B729-7ACA6257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158D3-B577-481E-A2B1-82BD1CD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A09EE-F1BE-4D1C-8EBD-3959BE14B3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FA904-F2B2-45BA-8619-5BE7CEAA3D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FE926-BE7F-44B2-9025-29375709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17B2A-1160-4F37-87D1-E92F56BC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BF3C8-0AD2-415F-B2C8-84F1DE7E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9F7C8-6390-4A95-A3E6-16D86243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82DFA-9D2C-4F29-9FD5-38A929CF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F29F8-6A80-49E1-AAE7-825FF28E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4DFA8-B58C-4313-934A-68AC4532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29157-CE98-4E7D-9F24-6207C0B1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29F19-3FBC-4580-A8F0-98196183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D3044-503F-4A4A-8B7D-AE4914DC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7D6B6-6134-4AF2-AA60-3C436285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9C91F-F1FE-4D6A-94F9-F25B2F9BAA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4EC56-F10E-4FA5-B238-CD1257BE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E3170-CA43-4573-ABF5-1EB33A03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5F79E-A216-4A5C-847F-AFB7A764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7E6AC-2092-49E6-86B7-E9D96AA8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0516C-FC0C-4FA5-AA98-E3A4DF8F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90EB6-3314-456E-8469-46BAE4F4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7AC15-66E9-4F62-B18E-444743D4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3999D-6EF6-4C1B-9DF1-077CB48F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E4E87-4589-499D-AFBE-A7A3B4A1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5A9CF-5385-41EF-8278-49E0A5C1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2911C-6B2F-4780-A846-8ECB1781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72423-9380-45E9-8C29-38D93A51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92360-93C3-4720-82C2-33E0934F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F8D46-E911-40C3-A6A1-B5736F3D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08F0B-943F-4BBA-8885-87FBA33D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E4CC6-D8BD-4183-A6BA-B920B3B3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6CEB5-8DF2-48CD-98FD-CB72DC50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6DE8F-06CE-4FD0-A2A7-6409994A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7DE33-D4CB-41CC-A1D7-F7B3A0D7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E8268-56D5-43AB-AA54-22DE9CE9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CBECC-3450-4BF0-A7A8-423FF674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8B213-0BA2-4766-9962-1F8B459F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24A57-D396-481F-B79D-A520BF7D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3D9EA-89EE-4966-ACC0-791BEEF1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360A6-CF7B-4CBF-AE43-960DE25D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C63ED-DB6D-4CB1-83BD-8C9BA30B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262E4-1275-42AC-A2E3-C1BAC9F9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1524D-9671-4178-AD6C-E94AC8E8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050E7-AD61-4D4B-ACDA-4CB43258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C5682-EE9C-4FFC-A7C8-6EBDC71F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8CE4D-4FF3-4623-BAA1-6A40ED13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F46C5-485B-4368-9CDB-3BB404E1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543C8-35EE-41A4-8C93-68A73BC8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CA371-066D-4F23-9A66-9F09FD7D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8AD60-8E5D-4F57-82A9-AB6CC258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F6A77-C0AE-47C3-B1D9-5B2FFC6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7D599-7810-4185-9631-94A66A48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3167B-7EC2-4E7D-A04F-21214EC1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14B96-2089-43F2-91D0-22190701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52289-FB2A-4A28-B3A8-ED5267CE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36A69-3395-4491-AB64-06E18431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F7644-E28F-44C7-9DBD-E9F4DC73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08F0F-05E5-4235-BA3C-730C37A3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5791A-E7A3-4B1F-BCC5-03314025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219FD-16AE-41E6-807D-A9EBBE81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659EA-B609-4304-B5A7-BE717514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6481B-0E69-46F6-8648-EEFE30F8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2AF6-061C-4CE9-A97C-EFC849AD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79EC7-0BAC-4C63-9810-270952DB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64520-D0CF-4467-B5C8-EAED630F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7448C-2A3C-4CD2-A7D9-E43A2CEC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2819F-7B3C-4570-926A-A31C18C0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1B428-2899-44C3-82EA-319DDAEE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E71D8-3569-4514-92FE-134A1B81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92EB1-176D-4329-BDF9-4CFDED56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E09E4-BC7D-4006-B547-D1BAD6D2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B9172-27B4-4BFD-8A92-DF12138F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4BEFC-520C-4D22-B703-FCDD86BE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0AF8E-7CBB-4877-9978-11D4E159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D0501-A2E2-4AC1-9EF4-6C9FFBFC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DE137-8356-40FB-9DCF-3E170F70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E26B9-2DC7-439C-B073-92EA0B32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72F96-5D46-4F1A-A05C-685F7B44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4A950-9551-466F-A468-983818D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CD990-62B7-4765-9A48-BBDC7CF0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09BA5-5049-4372-9F24-22BB956D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73731-2128-42BF-B3B3-BA716FB6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8D562-ABDB-481A-B8F5-1EF86D8E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80B04-7795-4534-9E22-987FBFE4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CF9A7-C1B6-4F4A-9C0D-C3D2DE02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B920E-6D6C-4056-A08F-8D48684F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B8E20-2D33-46F1-B278-3CAA8B5A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DB55D-442B-4A59-AA6B-D84FD2AC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39F76D-E984-4262-8C3F-2BC491AD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E609A-45D6-4916-803A-4DB28760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5E705-BBB8-4728-ACAB-0DCBF3C8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BB565-183F-4BC0-822C-B23EC2D6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B78FB-7CCD-4B02-8847-018570E7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FDE28-F2B5-4CF6-B397-49B44936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19E36-3600-4387-8C8E-DD37D96E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CCDD40-2045-44BD-BCE2-B3732112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A9459-BEC1-4C97-B51E-A30C646E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BC0D8-8085-4B7D-81F0-535DF3B8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2D6C0-C9D2-4A4A-8B1A-3AF5E900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E6DB1-B78A-4F64-8890-202EBE8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0DDCE6-36D0-4684-8782-2C153954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B912A-FF08-4030-B1A9-E5B33D4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0670E-0BF1-454D-9149-29F04A4E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A110DB-897E-4F9D-A050-734ECAB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6D192-0F03-4E07-A7BC-E978E3B8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2A52C3-AE72-41A8-BC70-D2561DCA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52D4F-1F2E-4720-A912-BF5C4911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10B2B-450C-457A-AD49-6D1E18B0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A8306-7959-4E11-8F5E-59E997A9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4BBAC2-5B3A-4A7F-9A3D-E3712044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6D6E2-7904-452F-B6CC-20BEE6E0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7B3A3-2354-44BB-BF2C-3270ECF5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45659-0179-4621-8576-5BE61286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7332C-0C7C-41D2-8EA8-85832BCC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CAC55-B062-482B-93EE-BA90EACB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619394-493E-4983-9C7A-EE8E6A8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44995-72E2-4E10-B371-162F8CF7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31B2C-FFC5-4064-87CC-77A3F76D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4BDCD-5CB9-42D8-A935-0D229EA9B2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2B0BD-7D5E-44F7-A09C-1EE76118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AB2DD-FBA0-4020-93D4-BC054135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0C817-BFDF-4E86-9212-BBE64B6D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13F70F-6C07-4442-B7C2-393B4E09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65127-AF19-430F-B897-63114658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EFB49-4322-4A40-83D7-075C4ED2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5DFA6-C121-4801-B253-9A67348F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C51843-998A-4A7F-83C2-E60E226A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F98FDB-EDC9-4F34-814A-508318C3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E74F3-0011-4AD4-985F-1813F481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05A7D-BDB6-4430-BCF5-EE17DD1C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E7BB50-CAC7-46B1-8C07-0E5B14FF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B53C1-DBFA-4627-94B9-C684F66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41C01-666A-43B2-A235-7643A492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85CA1-E41E-4F42-AF26-A2843AD6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CC49C-DB49-44BD-9B66-003B6DA7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79254D-3237-45A2-81FC-7C9ECF9A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7FFD7-75EA-4BD8-A470-C49F8010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F8D78-DE92-42F3-8511-1FB02FF7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4DD2B-7E13-4990-A757-49CE5A5C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B43AD-6233-4CE5-9131-751C76DE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8D1F71-7C03-443C-B49A-7335429E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440EEE-46BE-4256-BD35-02DDF18F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8141A-4AA7-4DDD-9B45-0F33CB38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6278C-B411-4A81-B709-47A4795A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32663-9704-426E-8A9F-63972457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9F116-5672-467A-9FD7-141E8BD1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0064D-805C-4F77-863E-7BC5926E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2D71B-5441-453F-846E-6C12C230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30585A-8879-4649-95E9-5E4065FD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1B529-0E59-425C-8356-DF726BCD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72149D-8772-4EEE-AB59-B9B35558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EC6BC7-109B-4150-91CD-96A01053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0423FE-FD15-4C15-9999-B71B9F9B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48C5FE-AD6F-4FF9-BBB3-CCB57DB9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F6160-E573-48A1-A9AD-5C72CC3A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2B92F-4AC6-4DA5-990D-196FDBCB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4BD1F-39B2-4B00-B169-079ED16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53FB3-D64F-4DC8-8643-944C5BEC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3122C-B5D4-44BC-90B8-80627030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5B7AC2-7871-460F-BDF5-3E82024E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655ABB-908C-43ED-A469-B8126D4C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C33EB-9DD4-4E2D-99D4-4D4D1AD5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BC36-5FC6-4503-88DC-26DCCCE9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1ABA12-F246-4F50-BFA7-03B1257F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73D738-BE4E-41B1-8A3B-80C53B3A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6233F4-1DFD-4AF7-AD04-59D05B32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7394D-9641-4FDE-B3C1-97FED974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06B87-48A0-4856-B4A8-F61AF185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2A77E4-03A5-4640-9037-5289204B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E310A-DE69-42EE-815A-E6C8816A86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EC67-A8D5-479C-82BE-AFE5B9F3BF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BECE6-BE3D-4DA4-B492-28A56D2F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388B-5991-49BA-818F-7288828D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0FCE-C6F0-4828-9129-39F5148A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48A8F-4EAE-4B51-94EB-E6041648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1188-EF5A-4A5A-9813-645C6916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59CD-88BE-40EF-A02E-8E42507F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D72E-E434-4D7E-A6AC-915C6644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DC44-3D3C-42B8-924C-971189C8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FE2E-4DED-483C-B4CF-F678C629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360FB-1AB8-4B0D-9AF2-C27BAF5F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18C9-46FA-451B-B2EA-5F14460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13A39-438E-4CEE-86BD-B12FF83241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B372A-4FD2-4255-8000-5B68101F78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9A9D-7785-495F-94BA-A7FD8861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8329E-4DA0-4695-9F41-5143B6CE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039AF-7F39-46FE-9CF1-FA5A1AA6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BB14A-7656-4B6E-8E65-C7A8215D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A1640-30FE-4C69-8E8B-806A03A1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B0B77-D270-48D9-8480-08FEF89E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502F4-6B30-48F7-860B-21C15530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7093C-30F7-4FA5-AA8E-B3FF483C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46F3E-1C30-4571-86BA-F1FED807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C84FA-D6C0-450A-9325-ECCFE36F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424843-15C1-4D6D-B716-4D561A09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D601A-9163-4571-BB26-5A0FC0FA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539F9-9E0E-4719-8B0E-B98A2A9C85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EACDD-BDC5-4CF4-B508-CA850D55EE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7B4ECA-589D-4570-B1D0-11BD9C87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FA160B-9095-4621-935D-84695B25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B8BA12-A752-4F67-A20B-DC170589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C3A604-F84F-4275-98FE-A9983B2C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2F50AB-566F-4B33-8484-CF6811C6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4258C-A8BC-445B-8CED-16C59470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8DDBDE-D327-46AC-94EA-B72B7D61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E16928-394B-4309-9574-D2C92C65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84DC-4381-4829-B742-9CCAA5E0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46457F-0CF5-46D9-AF0C-679D6E1D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C11281-A175-4A0C-8632-3646C770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987419-3BB3-434C-B281-C2DC58DCB5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9C045-BFBC-46B4-BE0F-8689B09110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122E0-08AA-416A-BCD5-1972BC48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AC916-9670-4578-B8F2-552AD81A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18F4B-646A-4178-B69C-4447FCD3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50B91-9055-4BF2-9446-C72870BB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DAE7-C5F1-4096-8441-D8FC63F8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151C-0A0F-4ED2-A378-6044FCBB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04A1-E381-43BC-9644-845ED882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FB8EF-EFBF-489E-8D9A-267C72F8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6FB34-44F1-4F75-8C78-99D88E75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0AF1F-8098-4EE2-B6BB-3C9C149C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2E5F9-C35E-4D0B-9AE5-02E22A54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D7009-A159-41BA-884F-D7D55003C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B7C49-66E3-41CD-824F-E9E278106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78E9D-CE68-490F-BA79-2EDC19B6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EEBA0-BD04-4C35-B007-0EACBF3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A34DC-1D96-4B36-95BC-239A6A0B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3C826-5163-4725-8ABC-685D57C8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43BF-E6A4-4C59-AF36-18BDD9EF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1F0ED-8EE7-4B6C-B087-9D265885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71A89-0864-4071-BDBE-6364739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B7635-8CA2-498B-B336-28A0A4A9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1AE36-6F49-42B0-B794-85708465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C1C88-C3A8-4357-AD28-7F1095BC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1595C-7EA5-4343-B906-C6AD1D2D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F1106-ED37-48C4-99DB-E53F838619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810A6F-FB5E-48A9-A3A5-1516E461E8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053309-35C7-4D1E-BBE6-BF4A65C6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6C5392-0639-40CD-9874-22467181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036D-F18B-4239-A59D-19E326D3C94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194B-E161-4B2C-B2FB-87288EF88E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8062-3685-4178-8AE9-037377C430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33C9-18D4-4F9F-B869-EB7D847B53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0C40-8408-4C9B-A170-D9D27B9ACD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30F4-1788-4857-9A05-FCF135FE780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B0E4-7EE7-472B-936E-D0E4F512CF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99DD-43D1-4C16-A5A9-DD2F8BAB003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3748-24B2-40DE-A588-F46B791C835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F484-51FA-4FD7-A81B-378F4DCC55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B732-4FF8-494F-91C3-EBB364330A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3D05-92B1-43AA-8A25-A76A2B59E6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7EE7-13BD-4A77-9EC5-CCDFAAA0E2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020D-1B42-4800-A764-6A6D636E6F6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8BB8-2C77-4C52-B9B3-604918507D9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40C4-2A13-4996-976A-083090569D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30E9-D05B-4C4B-8156-26963C94A5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B8BD-C487-4FD9-A19F-F0932C50F79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9C03-9F01-47E4-97D8-17724BC434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054E-8ABA-4FBB-AD1F-C89A296810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1325-15B5-4B74-9DFA-9A08701FE90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C492-B1AC-4093-88D8-80AFA347C9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AE17-9C4A-4F85-9CC7-A40FE12FAA9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74F0-C21B-47C4-B462-AA109351BB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892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6520" y="1816200"/>
            <a:ext cx="91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2"/>
          <p:cNvSpPr/>
          <p:nvPr/>
        </p:nvSpPr>
        <p:spPr>
          <a:xfrm>
            <a:off x="563400" y="988920"/>
            <a:ext cx="8356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写出得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+20+8=             56-3+10=              46+16-2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-12+43=            83-7 -60=              35+18-41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- 4- 33=            43+5+17=               52-26-26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3"/>
          <p:cNvSpPr/>
          <p:nvPr/>
        </p:nvSpPr>
        <p:spPr>
          <a:xfrm>
            <a:off x="2041560" y="17254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4"/>
          <p:cNvSpPr/>
          <p:nvPr/>
        </p:nvSpPr>
        <p:spPr>
          <a:xfrm>
            <a:off x="4424400" y="171936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文本框 5"/>
          <p:cNvSpPr/>
          <p:nvPr/>
        </p:nvSpPr>
        <p:spPr>
          <a:xfrm>
            <a:off x="7037280" y="172872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文本框 6"/>
          <p:cNvSpPr/>
          <p:nvPr/>
        </p:nvSpPr>
        <p:spPr>
          <a:xfrm>
            <a:off x="2112840" y="246060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文本框 7"/>
          <p:cNvSpPr/>
          <p:nvPr/>
        </p:nvSpPr>
        <p:spPr>
          <a:xfrm>
            <a:off x="4336920" y="244152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文本框 8"/>
          <p:cNvSpPr/>
          <p:nvPr/>
        </p:nvSpPr>
        <p:spPr>
          <a:xfrm>
            <a:off x="7024680" y="24526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文本框 9"/>
          <p:cNvSpPr/>
          <p:nvPr/>
        </p:nvSpPr>
        <p:spPr>
          <a:xfrm>
            <a:off x="2073240" y="316224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10"/>
          <p:cNvSpPr/>
          <p:nvPr/>
        </p:nvSpPr>
        <p:spPr>
          <a:xfrm>
            <a:off x="4417920" y="318456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12"/>
          <p:cNvSpPr/>
          <p:nvPr/>
        </p:nvSpPr>
        <p:spPr>
          <a:xfrm>
            <a:off x="7121520" y="316224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文本框 2"/>
          <p:cNvSpPr/>
          <p:nvPr/>
        </p:nvSpPr>
        <p:spPr>
          <a:xfrm>
            <a:off x="523800" y="79056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3"/>
          <p:cNvSpPr/>
          <p:nvPr/>
        </p:nvSpPr>
        <p:spPr>
          <a:xfrm>
            <a:off x="561960" y="1328760"/>
            <a:ext cx="81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+11+16=         70-25-14=             80-49+2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组合 7"/>
          <p:cNvGrpSpPr/>
          <p:nvPr/>
        </p:nvGrpSpPr>
        <p:grpSpPr>
          <a:xfrm>
            <a:off x="849240" y="1854360"/>
            <a:ext cx="1471680" cy="2226960"/>
            <a:chOff x="849240" y="1854360"/>
            <a:chExt cx="1471680" cy="2226960"/>
          </a:xfrm>
        </p:grpSpPr>
        <p:sp>
          <p:nvSpPr>
            <p:cNvPr id="1011" name="文本框 4"/>
            <p:cNvSpPr/>
            <p:nvPr/>
          </p:nvSpPr>
          <p:spPr>
            <a:xfrm>
              <a:off x="84924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  4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1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1  6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直接连接符 5"/>
            <p:cNvSpPr/>
            <p:nvPr/>
          </p:nvSpPr>
          <p:spPr>
            <a:xfrm>
              <a:off x="912600" y="27932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直接连接符 6"/>
            <p:cNvSpPr/>
            <p:nvPr/>
          </p:nvSpPr>
          <p:spPr>
            <a:xfrm>
              <a:off x="900360" y="354816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8"/>
          <p:cNvGrpSpPr/>
          <p:nvPr/>
        </p:nvGrpSpPr>
        <p:grpSpPr>
          <a:xfrm>
            <a:off x="3595680" y="1854360"/>
            <a:ext cx="1471680" cy="2226960"/>
            <a:chOff x="3595680" y="1854360"/>
            <a:chExt cx="1471680" cy="2226960"/>
          </a:xfrm>
        </p:grpSpPr>
        <p:sp>
          <p:nvSpPr>
            <p:cNvPr id="1015" name="文本框 9"/>
            <p:cNvSpPr/>
            <p:nvPr/>
          </p:nvSpPr>
          <p:spPr>
            <a:xfrm>
              <a:off x="359568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  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2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1  4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直接连接符 10"/>
            <p:cNvSpPr/>
            <p:nvPr/>
          </p:nvSpPr>
          <p:spPr>
            <a:xfrm>
              <a:off x="3659040" y="27932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直接连接符 12"/>
            <p:cNvSpPr/>
            <p:nvPr/>
          </p:nvSpPr>
          <p:spPr>
            <a:xfrm>
              <a:off x="3646800" y="354816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14"/>
          <p:cNvGrpSpPr/>
          <p:nvPr/>
        </p:nvGrpSpPr>
        <p:grpSpPr>
          <a:xfrm>
            <a:off x="6342120" y="1854360"/>
            <a:ext cx="1471680" cy="2226960"/>
            <a:chOff x="6342120" y="1854360"/>
            <a:chExt cx="1471680" cy="2226960"/>
          </a:xfrm>
        </p:grpSpPr>
        <p:sp>
          <p:nvSpPr>
            <p:cNvPr id="1019" name="文本框 15"/>
            <p:cNvSpPr/>
            <p:nvPr/>
          </p:nvSpPr>
          <p:spPr>
            <a:xfrm>
              <a:off x="634212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  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4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2  3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 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直接连接符 16"/>
            <p:cNvSpPr/>
            <p:nvPr/>
          </p:nvSpPr>
          <p:spPr>
            <a:xfrm>
              <a:off x="6405480" y="27932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直接连接符 17"/>
            <p:cNvSpPr/>
            <p:nvPr/>
          </p:nvSpPr>
          <p:spPr>
            <a:xfrm>
              <a:off x="6393240" y="354816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文本框 18"/>
          <p:cNvSpPr/>
          <p:nvPr/>
        </p:nvSpPr>
        <p:spPr>
          <a:xfrm>
            <a:off x="2436840" y="13208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19"/>
          <p:cNvSpPr/>
          <p:nvPr/>
        </p:nvSpPr>
        <p:spPr>
          <a:xfrm>
            <a:off x="4943520" y="13334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20"/>
          <p:cNvSpPr/>
          <p:nvPr/>
        </p:nvSpPr>
        <p:spPr>
          <a:xfrm>
            <a:off x="7943760" y="13334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文本框 2"/>
          <p:cNvSpPr/>
          <p:nvPr/>
        </p:nvSpPr>
        <p:spPr>
          <a:xfrm>
            <a:off x="555480" y="790560"/>
            <a:ext cx="35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组合 65"/>
          <p:cNvGrpSpPr/>
          <p:nvPr/>
        </p:nvGrpSpPr>
        <p:grpSpPr>
          <a:xfrm>
            <a:off x="571680" y="1479600"/>
            <a:ext cx="6932160" cy="2556720"/>
            <a:chOff x="571680" y="1479600"/>
            <a:chExt cx="6932160" cy="2556720"/>
          </a:xfrm>
        </p:grpSpPr>
        <p:grpSp>
          <p:nvGrpSpPr>
            <p:cNvPr id="1027" name="组合 8"/>
            <p:cNvGrpSpPr/>
            <p:nvPr/>
          </p:nvGrpSpPr>
          <p:grpSpPr>
            <a:xfrm>
              <a:off x="1142640" y="1725120"/>
              <a:ext cx="2464560" cy="388080"/>
              <a:chOff x="1142640" y="1725120"/>
              <a:chExt cx="2464560" cy="388080"/>
            </a:xfrm>
          </p:grpSpPr>
          <p:sp>
            <p:nvSpPr>
              <p:cNvPr id="1028" name="矩形 4"/>
              <p:cNvSpPr/>
              <p:nvPr/>
            </p:nvSpPr>
            <p:spPr>
              <a:xfrm>
                <a:off x="1931760" y="172512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9" name="直接箭头连接符 5"/>
              <p:cNvCxnSpPr/>
              <p:nvPr/>
            </p:nvCxnSpPr>
            <p:spPr>
              <a:xfrm>
                <a:off x="1142640" y="1899000"/>
                <a:ext cx="72036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30" name="矩形 6"/>
              <p:cNvSpPr/>
              <p:nvPr/>
            </p:nvSpPr>
            <p:spPr>
              <a:xfrm>
                <a:off x="3225240" y="173124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1" name="直接箭头连接符 7"/>
              <p:cNvCxnSpPr/>
              <p:nvPr/>
            </p:nvCxnSpPr>
            <p:spPr>
              <a:xfrm>
                <a:off x="2436480" y="1905480"/>
                <a:ext cx="72000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grpSp>
          <p:nvGrpSpPr>
            <p:cNvPr id="1032" name="组合 9"/>
            <p:cNvGrpSpPr/>
            <p:nvPr/>
          </p:nvGrpSpPr>
          <p:grpSpPr>
            <a:xfrm>
              <a:off x="5039640" y="1708560"/>
              <a:ext cx="2464200" cy="388080"/>
              <a:chOff x="5039640" y="1708560"/>
              <a:chExt cx="2464200" cy="388080"/>
            </a:xfrm>
          </p:grpSpPr>
          <p:sp>
            <p:nvSpPr>
              <p:cNvPr id="1033" name="矩形 10"/>
              <p:cNvSpPr/>
              <p:nvPr/>
            </p:nvSpPr>
            <p:spPr>
              <a:xfrm>
                <a:off x="5828400" y="170856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4" name="直接箭头连接符 12"/>
              <p:cNvCxnSpPr/>
              <p:nvPr/>
            </p:nvCxnSpPr>
            <p:spPr>
              <a:xfrm>
                <a:off x="5039640" y="188244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35" name="矩形 14"/>
              <p:cNvSpPr/>
              <p:nvPr/>
            </p:nvSpPr>
            <p:spPr>
              <a:xfrm>
                <a:off x="7121880" y="171468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6" name="直接箭头连接符 15"/>
              <p:cNvCxnSpPr/>
              <p:nvPr/>
            </p:nvCxnSpPr>
            <p:spPr>
              <a:xfrm>
                <a:off x="6333120" y="188892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grpSp>
          <p:nvGrpSpPr>
            <p:cNvPr id="1037" name="组合 21"/>
            <p:cNvGrpSpPr/>
            <p:nvPr/>
          </p:nvGrpSpPr>
          <p:grpSpPr>
            <a:xfrm>
              <a:off x="1117800" y="2625120"/>
              <a:ext cx="2464200" cy="388080"/>
              <a:chOff x="1117800" y="2625120"/>
              <a:chExt cx="2464200" cy="388080"/>
            </a:xfrm>
          </p:grpSpPr>
          <p:sp>
            <p:nvSpPr>
              <p:cNvPr id="1038" name="矩形 22"/>
              <p:cNvSpPr/>
              <p:nvPr/>
            </p:nvSpPr>
            <p:spPr>
              <a:xfrm>
                <a:off x="1906560" y="262512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9" name="直接箭头连接符 23"/>
              <p:cNvCxnSpPr/>
              <p:nvPr/>
            </p:nvCxnSpPr>
            <p:spPr>
              <a:xfrm>
                <a:off x="1117800" y="279900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40" name="矩形 24"/>
              <p:cNvSpPr/>
              <p:nvPr/>
            </p:nvSpPr>
            <p:spPr>
              <a:xfrm>
                <a:off x="3200040" y="263124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1" name="直接箭头连接符 25"/>
              <p:cNvCxnSpPr/>
              <p:nvPr/>
            </p:nvCxnSpPr>
            <p:spPr>
              <a:xfrm>
                <a:off x="2411280" y="280548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grpSp>
          <p:nvGrpSpPr>
            <p:cNvPr id="1042" name="组合 26"/>
            <p:cNvGrpSpPr/>
            <p:nvPr/>
          </p:nvGrpSpPr>
          <p:grpSpPr>
            <a:xfrm>
              <a:off x="5039640" y="2656800"/>
              <a:ext cx="2464200" cy="388080"/>
              <a:chOff x="5039640" y="2656800"/>
              <a:chExt cx="2464200" cy="388080"/>
            </a:xfrm>
          </p:grpSpPr>
          <p:sp>
            <p:nvSpPr>
              <p:cNvPr id="1043" name="矩形 27"/>
              <p:cNvSpPr/>
              <p:nvPr/>
            </p:nvSpPr>
            <p:spPr>
              <a:xfrm>
                <a:off x="5828400" y="265680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4" name="直接箭头连接符 28"/>
              <p:cNvCxnSpPr/>
              <p:nvPr/>
            </p:nvCxnSpPr>
            <p:spPr>
              <a:xfrm>
                <a:off x="5039640" y="283068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45" name="矩形 35"/>
              <p:cNvSpPr/>
              <p:nvPr/>
            </p:nvSpPr>
            <p:spPr>
              <a:xfrm>
                <a:off x="7121880" y="266292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6" name="直接箭头连接符 36"/>
              <p:cNvCxnSpPr/>
              <p:nvPr/>
            </p:nvCxnSpPr>
            <p:spPr>
              <a:xfrm>
                <a:off x="6333120" y="283716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sp>
          <p:nvSpPr>
            <p:cNvPr id="1047" name="文本框 37"/>
            <p:cNvSpPr/>
            <p:nvPr/>
          </p:nvSpPr>
          <p:spPr>
            <a:xfrm>
              <a:off x="581760" y="164592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组合 38"/>
            <p:cNvGrpSpPr/>
            <p:nvPr/>
          </p:nvGrpSpPr>
          <p:grpSpPr>
            <a:xfrm>
              <a:off x="1124280" y="3598200"/>
              <a:ext cx="2464200" cy="388080"/>
              <a:chOff x="1124280" y="3598200"/>
              <a:chExt cx="2464200" cy="388080"/>
            </a:xfrm>
          </p:grpSpPr>
          <p:sp>
            <p:nvSpPr>
              <p:cNvPr id="1049" name="矩形 39"/>
              <p:cNvSpPr/>
              <p:nvPr/>
            </p:nvSpPr>
            <p:spPr>
              <a:xfrm>
                <a:off x="1913040" y="359820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0" name="直接箭头连接符 40"/>
              <p:cNvCxnSpPr/>
              <p:nvPr/>
            </p:nvCxnSpPr>
            <p:spPr>
              <a:xfrm>
                <a:off x="1124280" y="377208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51" name="矩形 41"/>
              <p:cNvSpPr/>
              <p:nvPr/>
            </p:nvSpPr>
            <p:spPr>
              <a:xfrm>
                <a:off x="3206520" y="360432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2" name="直接箭头连接符 42"/>
              <p:cNvCxnSpPr/>
              <p:nvPr/>
            </p:nvCxnSpPr>
            <p:spPr>
              <a:xfrm>
                <a:off x="2417760" y="377856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grpSp>
          <p:nvGrpSpPr>
            <p:cNvPr id="1053" name="组合 43"/>
            <p:cNvGrpSpPr/>
            <p:nvPr/>
          </p:nvGrpSpPr>
          <p:grpSpPr>
            <a:xfrm>
              <a:off x="5039640" y="3605040"/>
              <a:ext cx="2464200" cy="388080"/>
              <a:chOff x="5039640" y="3605040"/>
              <a:chExt cx="2464200" cy="388080"/>
            </a:xfrm>
          </p:grpSpPr>
          <p:sp>
            <p:nvSpPr>
              <p:cNvPr id="1054" name="矩形 44"/>
              <p:cNvSpPr/>
              <p:nvPr/>
            </p:nvSpPr>
            <p:spPr>
              <a:xfrm>
                <a:off x="5828400" y="360504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5" name="直接箭头连接符 45"/>
              <p:cNvCxnSpPr/>
              <p:nvPr/>
            </p:nvCxnSpPr>
            <p:spPr>
              <a:xfrm>
                <a:off x="5039640" y="377892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56" name="矩形 46"/>
              <p:cNvSpPr/>
              <p:nvPr/>
            </p:nvSpPr>
            <p:spPr>
              <a:xfrm>
                <a:off x="7121880" y="361116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7" name="直接箭头连接符 47"/>
              <p:cNvCxnSpPr/>
              <p:nvPr/>
            </p:nvCxnSpPr>
            <p:spPr>
              <a:xfrm>
                <a:off x="6333120" y="378540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sp>
          <p:nvSpPr>
            <p:cNvPr id="1058" name="文本框 48"/>
            <p:cNvSpPr/>
            <p:nvPr/>
          </p:nvSpPr>
          <p:spPr>
            <a:xfrm>
              <a:off x="4463280" y="165240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49"/>
            <p:cNvSpPr/>
            <p:nvPr/>
          </p:nvSpPr>
          <p:spPr>
            <a:xfrm>
              <a:off x="580320" y="254376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文本框 50"/>
            <p:cNvSpPr/>
            <p:nvPr/>
          </p:nvSpPr>
          <p:spPr>
            <a:xfrm>
              <a:off x="4462200" y="258408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文本框 51"/>
            <p:cNvSpPr/>
            <p:nvPr/>
          </p:nvSpPr>
          <p:spPr>
            <a:xfrm>
              <a:off x="571680" y="350928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文本框 52"/>
            <p:cNvSpPr/>
            <p:nvPr/>
          </p:nvSpPr>
          <p:spPr>
            <a:xfrm>
              <a:off x="4453200" y="351576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文本框 53"/>
            <p:cNvSpPr/>
            <p:nvPr/>
          </p:nvSpPr>
          <p:spPr>
            <a:xfrm>
              <a:off x="1140480" y="149724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文本框 54"/>
            <p:cNvSpPr/>
            <p:nvPr/>
          </p:nvSpPr>
          <p:spPr>
            <a:xfrm>
              <a:off x="2423520" y="149616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文本框 55"/>
            <p:cNvSpPr/>
            <p:nvPr/>
          </p:nvSpPr>
          <p:spPr>
            <a:xfrm>
              <a:off x="5006880" y="148068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文本框 56"/>
            <p:cNvSpPr/>
            <p:nvPr/>
          </p:nvSpPr>
          <p:spPr>
            <a:xfrm>
              <a:off x="6289920" y="147960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文本框 57"/>
            <p:cNvSpPr/>
            <p:nvPr/>
          </p:nvSpPr>
          <p:spPr>
            <a:xfrm>
              <a:off x="1093680" y="238752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文本框 58"/>
            <p:cNvSpPr/>
            <p:nvPr/>
          </p:nvSpPr>
          <p:spPr>
            <a:xfrm>
              <a:off x="2376360" y="238644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文本框 59"/>
            <p:cNvSpPr/>
            <p:nvPr/>
          </p:nvSpPr>
          <p:spPr>
            <a:xfrm>
              <a:off x="5046840" y="244224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文本框 60"/>
            <p:cNvSpPr/>
            <p:nvPr/>
          </p:nvSpPr>
          <p:spPr>
            <a:xfrm>
              <a:off x="6322320" y="244944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文本框 61"/>
            <p:cNvSpPr/>
            <p:nvPr/>
          </p:nvSpPr>
          <p:spPr>
            <a:xfrm>
              <a:off x="1155240" y="335952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62"/>
            <p:cNvSpPr/>
            <p:nvPr/>
          </p:nvSpPr>
          <p:spPr>
            <a:xfrm>
              <a:off x="2437920" y="335808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文本框 63"/>
            <p:cNvSpPr/>
            <p:nvPr/>
          </p:nvSpPr>
          <p:spPr>
            <a:xfrm>
              <a:off x="5070600" y="338400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64"/>
            <p:cNvSpPr/>
            <p:nvPr/>
          </p:nvSpPr>
          <p:spPr>
            <a:xfrm>
              <a:off x="6353280" y="338292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文本框 66"/>
          <p:cNvSpPr/>
          <p:nvPr/>
        </p:nvSpPr>
        <p:spPr>
          <a:xfrm>
            <a:off x="1871640" y="169848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67"/>
          <p:cNvSpPr/>
          <p:nvPr/>
        </p:nvSpPr>
        <p:spPr>
          <a:xfrm>
            <a:off x="3162240" y="169848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68"/>
          <p:cNvSpPr/>
          <p:nvPr/>
        </p:nvSpPr>
        <p:spPr>
          <a:xfrm>
            <a:off x="5775480" y="168444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69"/>
          <p:cNvSpPr/>
          <p:nvPr/>
        </p:nvSpPr>
        <p:spPr>
          <a:xfrm>
            <a:off x="7050240" y="167652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70"/>
          <p:cNvSpPr/>
          <p:nvPr/>
        </p:nvSpPr>
        <p:spPr>
          <a:xfrm>
            <a:off x="1847880" y="259236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71"/>
          <p:cNvSpPr/>
          <p:nvPr/>
        </p:nvSpPr>
        <p:spPr>
          <a:xfrm>
            <a:off x="3133800" y="259380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72"/>
          <p:cNvSpPr/>
          <p:nvPr/>
        </p:nvSpPr>
        <p:spPr>
          <a:xfrm>
            <a:off x="5772240" y="260820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73"/>
          <p:cNvSpPr/>
          <p:nvPr/>
        </p:nvSpPr>
        <p:spPr>
          <a:xfrm>
            <a:off x="7048440" y="261468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74"/>
          <p:cNvSpPr/>
          <p:nvPr/>
        </p:nvSpPr>
        <p:spPr>
          <a:xfrm>
            <a:off x="1852560" y="355284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75"/>
          <p:cNvSpPr/>
          <p:nvPr/>
        </p:nvSpPr>
        <p:spPr>
          <a:xfrm>
            <a:off x="3244680" y="357012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76"/>
          <p:cNvSpPr/>
          <p:nvPr/>
        </p:nvSpPr>
        <p:spPr>
          <a:xfrm>
            <a:off x="5756400" y="356220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77"/>
          <p:cNvSpPr/>
          <p:nvPr/>
        </p:nvSpPr>
        <p:spPr>
          <a:xfrm>
            <a:off x="7039080" y="356400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文本框 2"/>
          <p:cNvSpPr/>
          <p:nvPr/>
        </p:nvSpPr>
        <p:spPr>
          <a:xfrm>
            <a:off x="530280" y="923760"/>
            <a:ext cx="814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年级订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份《中国少年报》，二年级比一年级多订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份，两个年级一共订了多少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强计划三天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字，第一天写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，第二天写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，还有多少个字没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3"/>
          <p:cNvSpPr/>
          <p:nvPr/>
        </p:nvSpPr>
        <p:spPr>
          <a:xfrm>
            <a:off x="1143000" y="1920960"/>
            <a:ext cx="65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+6+35=7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两个年级一共订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4"/>
          <p:cNvSpPr/>
          <p:nvPr/>
        </p:nvSpPr>
        <p:spPr>
          <a:xfrm>
            <a:off x="1190520" y="4057560"/>
            <a:ext cx="65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1=3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还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个字没有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9:08Z</dcterms:modified>
  <cp:revision>1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